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41C-FD3D-4E79-A93D-7D70628B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E72-9714-4713-9C36-3972046C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EEC-7EA7-468E-9F5A-F76C84B0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F6A-0865-4AD3-8E5A-75DE6EE8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12D-B5CD-4165-BFDE-45098426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11AB-1071-4A12-A10D-EF58F4F9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B98C-03C2-4BF0-AF1F-EE6B12A2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031F-B2F3-47A8-BB33-26860103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8796-8C48-4613-B2AC-4908A925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EADF-B4BD-45E8-859D-CC9E9B47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6EE6-5239-4EF9-AC6E-77B3677F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9F4-F7C6-41D5-BD3A-0B4C0BB1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C55D-76CA-4BA2-8509-950594C57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lencoe.com/" TargetMode="External"/><Relationship Id="rId2" Type="http://schemas.openxmlformats.org/officeDocument/2006/relationships/hyperlink" Target="mailto:hzumaeta@renaissancecharter.org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371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 Clase 10 N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5 de enero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2590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28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omo repasamos el Capitulo 8 para el exa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6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6 (6-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s 3-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7 (16-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76320"/>
            <a:ext cx="876312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Y, STAPLE, GULE OR TAPE INTO NOTE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INE QUIZ; DUE BY MIDNIGHT TOMORROW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lenco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PassCode: ASD4003c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: TEST PREP /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aso del capitulo Self-Check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submitting the quiz, complete the bottom section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ou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 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our 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TEACHER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zumaeta@renaissancecharter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9:14:38Z</dcterms:created>
  <dc:creator>Helen Zumaeta</dc:creator>
  <dc:description/>
  <dc:language>en-US</dc:language>
  <cp:lastModifiedBy>Helen Zumaeta</cp:lastModifiedBy>
  <dcterms:modified xsi:type="dcterms:W3CDTF">2013-01-14T19:18:03Z</dcterms:modified>
  <cp:revision>1</cp:revision>
  <dc:subject/>
  <dc:title>Me llamo ________ Clase 10 N La fecha es el 15 de enero del 2013</dc:title>
</cp:coreProperties>
</file>